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E2E-900E-40AD-98DD-9B99E2F7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BCE-7F56-494B-885B-6FA32942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271-3609-4627-B606-7396DA15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E3E-E4E4-4FAC-AAC1-9287378C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5C5-F4A5-4A5E-A2B6-E9A44E7E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7A4-6E1C-4B9E-9A5B-A802866B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F27-300B-48F0-B9AB-84CF311B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B7E-8D76-43CB-9DC5-5260C835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ED3-D8A1-4E6E-9AFD-4922DB77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992-469A-4E7A-9418-641C5576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0AD-423A-4BF6-82F4-E4EC8C9D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D9A-A807-4D1D-A29E-F876B87B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B797-79DD-40E6-8817-268080496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__________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2T23:28:30Z</dcterms:modified>
  <cp:revision>3</cp:revision>
  <dc:subject/>
  <dc:title>Digital ___________</dc:title>
</cp:coreProperties>
</file>